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0BB98-1108-44E2-A1FE-B135BAECE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E90B1-38D8-4B3A-B148-8B2E65830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D436E-01D3-4825-9FBB-0A290AA02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73928-5ABE-41E4-A941-F8EDF42809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7CC-7460-4E6E-B266-A0F2381A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F06-C4D3-4E42-980C-4F476D9D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A741C-5822-4442-9899-862C9C05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BAFF0-9AF5-40BF-8009-E4C0142A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EDD90-8168-4DC9-885C-56AFD398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B40D0-C72D-4F76-8318-48EDA328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21FF3-0E4D-416A-9538-BE9E3CB8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9B707-1A30-476F-B6E3-3A092872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BD8A8-7992-4FF8-8E51-3449A12B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4E9C9-6FEF-4150-9882-FC026CA2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95FFE-78E1-4E34-9377-CDA54036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3E982-0520-432E-A859-85A5C135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985-69DB-47AB-A5D9-A065CD4D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D059F-3926-4241-B071-E019EADE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FD4E3-171C-4E23-9353-96951021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27BAF-E715-4AAC-9CF6-E2855703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F7B6C-C5CF-402B-BDB1-0F251D8B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862A0-0EC8-4F34-8147-193C41ED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4B209-102E-4C90-9753-D7BAD0D9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3BB88-573D-428F-85FD-9D1D571D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926D4-AB3F-4955-A977-4CD6BB0E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7CC72-5A0F-492F-B54E-AF4FFB8D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44850-AAFE-4A50-B1E8-0B579570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B96-045F-4068-8308-85E3BC70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F320A-8523-4240-90B5-9513D4B9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C4423-25A7-4348-BB2E-FD014DFB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E2772-43AD-41A0-894A-8B1D006E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62D5F-A629-4DB9-BD68-E0747B07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56A1C-13E4-46C6-B1D4-B62C889F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2684F-360D-4039-ABEF-CC8CC275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F7C17-B033-4648-B540-27402F36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7C22B-2A2A-4481-97FB-563F4994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D404C-6EDE-4C0A-B4A5-01ADD715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F8EDC-41D0-40BD-8739-8E0F0B20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04D82-A53D-421A-AB3B-FBF08C06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3B88B-4BBF-4F2B-A838-80D56C9D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5993E-70F8-418E-8976-7458BD15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75CF4-2BD8-42C0-8FF2-436987B2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D71CA-4E9E-4715-B34D-DE514575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E98BE-81B8-4566-B5B2-F1FD0BA3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5ADAE-0430-4688-9498-382D4DA7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AA5A8-7C96-4963-B441-1017B8C1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47050-496F-48E3-9E7D-EA783D8A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1C5F2-6814-4578-94F0-3207E080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E511F-CF17-4DCA-ADCC-951F6EA9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3E3AA-D3EB-42F0-A928-214D27C3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2F78D-4416-4A18-B272-882364BF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D8124-3C24-40FD-908F-8BEDB70D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E5E5E-17B1-4BAD-9713-D47C7BC2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1ACAD-CFC3-4A88-90A6-FE195C76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8DB40-0EE0-47A7-89E2-47B739CA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EFCEE-E943-42A2-AC35-EDCF0F33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568AB-1A41-433C-8A6F-1EAB5AD7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7DFEE-BCBD-4B6C-AFEE-FE69A130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E8C51-7834-431D-BA6A-A1B0AF11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626FF-78A9-4F63-8A30-D9C2A168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5161C-0B1D-4B3B-A114-5A8D33CA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430FD-8EC0-4C78-8D6B-A784F088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98FD7-ECED-47FB-93C3-37FE1C8E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D4174-1E3C-47E2-AA0B-120E00BA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6DE2A-7BC6-4BBB-9F50-3A88FE6E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6A1CA-3946-4BCA-A87A-9478F9A1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5F015-4CA6-499C-9C37-537C1099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6F433-AC79-4E4C-AA66-3EBF07AF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98DED-1D5D-451F-93D0-FFA77D66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D8002-AFFB-4220-A674-9D5DD247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FFDC2-0E79-45D4-ADC1-F1A97379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3BCE4-D5CB-4D8C-A8BF-9F28239E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702E3-9BF6-48EE-9067-CE9771C4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0B18E-64A2-4C93-AD19-D620F552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B8B9A-04BE-417B-BC03-BA666A31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921D4-83AE-4065-87D0-7C4470C0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A5214-6921-4F05-B952-8781B210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DB6FB-B038-4434-9F78-76A55A69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254FD-69D8-46E4-BD66-40F0645C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E88C4-E020-449A-9B43-2ACA00BA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5040E-35DE-4F99-BAB1-EBC8ED52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D40FB-6D92-411B-8209-C6D8F4E5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CEB24-62A6-45E4-B941-DAA0D1EC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327F2-7016-4EB5-9012-513BF427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AAD87-40D0-414B-B44F-A4D2BA62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C7FFB-4D6A-40CB-B8BB-C32E1D15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E7EE6-02EC-4090-89F6-1BD0D9AA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26356-17AE-4D79-AE2D-FB11BC30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4441D-9477-4C53-96CF-321372DA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B95227-1A2B-42EF-8B60-B4E08737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255BF-9ED4-4F9E-9454-41E135C0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DED02-F557-45DD-AEF4-31BC667A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492F1-D97C-46CC-91F9-64B2C41B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BB4E2-39BA-4803-9F3C-88739EBC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EF5321-D63D-4ECF-8B1D-66999A2F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6E0BA-1EE4-4192-BCAA-EB847011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A4A66-286E-4376-9170-78DDA1C2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D938E-2D38-4A0E-9E5C-6F8B2445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AB65B-3E20-45EA-A04F-DD286480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9C37E-C87D-4F83-8CE4-CC21F2C8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7C00A-384B-4239-BD1A-553880B5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FF205-E48E-47C5-8CFA-1A395236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4DDD5-9094-4829-8014-3D9A5CF4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84A86-BDF2-4771-9358-58F0057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2A83E-F39F-4733-B80B-DD463C37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684C3-A9D5-41B0-805C-05F8E63C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02B0A-72F5-4AEE-8567-6E7A344C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95BAE-DEDC-4B87-9B0C-FE84C880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DEA4C-755D-4243-900C-F07301D1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3FEF0-6581-45F6-B21B-A9555D67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A09C1-2BF1-4FC6-8FB1-1A74C542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E255F-B6D0-4DDB-A969-968627FE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57ED2C-ED82-4650-81ED-CEE37599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F12CC-8716-4314-A0A0-6DA8C4C3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99750-3DA3-4DE1-9C68-DD90A448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89B-FE2D-4472-95BD-7418872B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7EDF7-28B1-4C62-AF56-738CDC54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1389C-A9F1-4162-BF48-D72DE3A1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0CFBB-6480-4092-8700-214E9C65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7BEBB5-8E34-4697-AD1C-F446AF55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325CF-9060-431F-83A6-6DB5DAD6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C55732-5039-4189-8320-ADD7C44B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990C2-96F7-4BCE-9146-8101F20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512E5-405A-4FB0-BD34-0AAF1CC5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E707F-8589-45A2-911B-12917A58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FC480-55D4-4948-929D-51A2EF8E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E210-7854-4B54-AFCA-B9EA26AE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5D53-5CAF-4E68-9880-8CA4D19B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51AD-8077-4390-AE73-704278BD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D507-F400-4ABA-8036-A1F2C187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39B10-3181-4051-A8A6-614E057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E69-2B79-4BFF-B7F4-429B1CB4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AE5C-F2B0-4BA8-B8AD-A27EF4B7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65D5-029C-4148-A82E-742CF3E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9E83-C7B8-4CF3-B767-D58A7EBE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076E-B82F-4D35-872E-0C2BE107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482B-5703-4743-AD8D-F29C1000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A7F49-0C58-4204-A0DA-C5E1891C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0BBE-67AF-441B-BBF5-B3BE9D85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C6A7A-2DE3-47E9-97ED-19840C1E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AD046-02AC-4E18-A74F-FFD20298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ED760-22B9-4083-9E2C-C2C5235B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E98-A9A1-42A3-B045-66DE3A75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D1229-014E-467D-8588-06BE8720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C062F-B2B3-4A70-8838-196D7FB2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FEC65-CCD9-4B38-9E81-16F75D72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3FCF-E8F4-4E40-A6E4-2EFDBFCA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B3C0-D5FE-47B3-A39F-C53636E1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93DF-8F6C-4718-9251-343A43A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A1899-4654-485B-8A45-A2CB6564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56134-3696-44EE-A2A9-EE18A109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7BCCF-A8B0-4249-A014-2536DAE9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E9DED-3F3D-4229-B89B-E4A362C8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8E9-94EC-4031-B01C-ECBB09FB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31C76-AAC0-4910-A24C-51002A79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4AFAA-4CB7-46F1-8762-39C1347E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7FDAA-3E1B-4101-BFE2-863A1F93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95032-C4F8-41B1-AF4C-DE865EFE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00505-7C59-414C-B410-673E45A4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26B7C-BC01-4383-A450-526731AF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E3152-01DF-488B-871E-597C7F7C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D3A82-FD2C-4D99-9026-24D73E36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88FBC-5EFE-436F-9832-3A16503F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4A539-4BFB-4D0A-82D0-A2590387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429-6363-4F3F-98FE-EF4C6908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6133-D464-4E32-8907-230DB156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9FF68-6F35-4C53-8E8F-CCC3AED6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D7948-3463-4D4A-BBB1-C0E3CD55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6392E-F338-4068-9DF9-7E93A488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95212-4A57-4758-B324-83183EA9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0BFE-BD4C-420F-9FE0-834191E6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0C6CA-8865-4219-9E53-992468DA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F6F47-48AF-4555-8738-F8DB593B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B31D1-D680-45F0-9CF3-21539509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F4BE7-6F1D-40BB-8291-1CBC0ABA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0A4-F69E-4CA2-8A51-6A730AA9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21F1B-ADC5-48F0-8ACA-E7C0A502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4FA7-2521-4C1C-AB03-C58525B6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9C339-6E38-4BF2-AD5F-C52070C3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5BAC3-BA0E-468D-8556-94056D02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06537-A22F-42C8-8403-5174BB71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13664-8A32-4156-9527-03F9667E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709B0-EC5B-4DF5-B08E-8AE97AE6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8D9B5-CD2E-4C3C-8785-9324BC4D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34B0B-52A6-436F-8DB0-2F9E5BED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2F70A-91C6-4893-B236-20C74D4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362-08E9-4C69-BA4D-98865137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536F1-8FC0-4F65-BC6F-E512A35D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126EF-615D-411B-8CBE-647BBA0D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9BED4-25CA-45B6-B9EB-DC4019B1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AF479-5D69-45A8-B595-EBD6BE4B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3D5E2-DF8B-4C8D-9288-BC819EFB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DF5AB-8255-43B8-9E40-D367050C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E2A1C-8121-4410-B7C6-D7FF87BB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0DB59-C268-4A00-AD42-0FC4428C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D67BD-E00F-4EEE-A392-40E14CF6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86496-1740-41FA-AA96-A9AD5D49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887-4AB8-448F-A548-27D8F121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D2C82-FCF5-49D6-9F3A-3B67068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CA31D-3300-463C-92D3-E35CFDA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C831A-F962-4B66-8306-AE1697A1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F52D2-FA1B-49CB-B706-9E25D16F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9CDDD-4441-4A9C-B3A0-5210DDFA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1D9F5-F16F-4362-A8CE-D79D35B0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28D54-64BE-4759-966E-0B6C6128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61789-F409-429C-B945-241D70BD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B3822-5A7D-4EAD-BF27-69DC2BE3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664CD-0F25-46EC-9623-71307C88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46228-A02D-4AE1-8885-A0DE4C16D3D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C981E-3398-42ED-9496-E4DA0AF9B83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D79B1-6389-40A6-8CAA-CE2BEBA62342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174AA-CCFC-4D78-B37C-E123BDAA64C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BE0EB-4F71-4095-9E76-701FDF463A1B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EB384-0F7B-4785-AA96-6D735A81A48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579CE-6FE5-45A0-B1D6-E20A34DD7D91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314EB-A730-438B-874A-13BA7408F0C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EFB13-CF51-42B7-9F04-F3A13674FBF5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0C740-73DC-4CAC-9B90-26750024367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562BE-4535-497C-AB12-84055B308DCB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8670A-52D0-4FC3-B823-C754306DFB1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519A9-BEA2-45F4-9AF8-E36857A7613C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9EE96-3299-4883-8044-B273DBB6B4E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B7721-960A-4DCF-B529-A9B38D70446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2DF44-73B3-41F9-8948-E4617650A18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1EAAB-AE4D-451C-8FA1-CD5CFCB256AD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03AC7-8966-4A82-A42B-3C7E43838AE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DDC93-F430-4D8F-B38C-3FF8D8BEC61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C8B90-0712-4424-BDB0-1B47AD9FEAD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08FC1-43BD-445B-B236-EEC921C1AE4F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262DB-95F7-4E02-9475-006CBE48960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AEA03-E5FC-4122-B306-AAD6CB77E5C8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A454B-85DB-4ECE-817B-6173E85F340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6F244-2FDA-4B3B-B3FC-6F333CB2DE6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4E88D-C7B8-4DC5-8920-A25747C2F0E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3966B-A801-4688-B24D-EBA71A2C0FF8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5D8C8-FE52-40AB-8AEA-734F5B1B5C1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88572-C6E6-43FC-8B7B-F0CD76E3001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90E74-59D1-4607-9585-9650342B291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1CAE5-28E2-431B-B9B5-224E5DD8445D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C9288-0FF4-4B71-9226-371CEEF2C4E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3BC4B-2FDA-4C4B-811C-DEBDDBDC3944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D2B41-B62E-4374-9C55-37FE12BEB16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eek Government &amp; Law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7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Dorians Inva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79440" y="1425600"/>
            <a:ext cx="84405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oth Mycenaean &amp; Minoan civilizations weakened by earthquak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1200 B.C all major Mycenaean cities destroy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w migrating tribes (Dorians) arriv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ss advanced – </a:t>
            </a:r>
            <a:r>
              <a:rPr b="0" lang="ja-JP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ek Dark Age</a:t>
            </a:r>
            <a:r>
              <a:rPr b="0" lang="ja-JP" sz="2800" spc="-1" strike="noStrike">
                <a:solidFill>
                  <a:srgbClr val="ffffff"/>
                </a:solidFill>
                <a:latin typeface="Trebuchet MS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Dorians appear to have been illiterate. No written record exists between 1150-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ntil Phoenician traders introduced an alphabet around 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C:\Documents and Settings\Evan\My Documents\My Pictures\New Folder\MapGreekColonies.jpg"/>
          <p:cNvPicPr/>
          <p:nvPr/>
        </p:nvPicPr>
        <p:blipFill>
          <a:blip r:embed="rId1"/>
          <a:srcRect l="2015" t="0" r="2015" b="0"/>
          <a:stretch/>
        </p:blipFill>
        <p:spPr>
          <a:xfrm>
            <a:off x="811080" y="1185840"/>
            <a:ext cx="75837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79040" y="755280"/>
            <a:ext cx="75834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velopment of City-States 800</a:t>
            </a: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-700</a:t>
            </a: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 B.C.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288720" y="1600200"/>
            <a:ext cx="885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750 B.C. the method of governing areas had changed from tribal to more formal governments (city-states 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rebuchet MS"/>
              </a:rPr>
              <a:t>POLI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w around fortified hilltop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LIS: Greek city-state – the fundamental political unit of ancient Greece after about 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LIS: Fort, the city and the surrounding lan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4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hared Features of City-Stat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225360" y="852480"/>
            <a:ext cx="8918640" cy="60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30-500 square miles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mall population (most fewer than 10,000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Only free adult men had all rights of citizenship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omen were considered citizens without political righ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itizens gathered at th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rebuchet MS"/>
              </a:rPr>
              <a:t>AGORA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(marketplace) or on a fortified hilltop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rebuchet MS"/>
              </a:rPr>
              <a:t>ACROPOLIS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o discuss city governmen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poke the same languag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hared many religious ideas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Greek myth that all Greeks were descended from Hellen (Hellenistic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estivals such as Olympic Games brought them togeth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were the Greeks Special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22360" y="1425600"/>
            <a:ext cx="8175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te your own A3 poster showing the contributions of Greek Civiliz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s is intended to introduce you to the scope of Greek contributions (in summary - why we are studying Greek civilization) and some key individuals that we will look at in more detail late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ke this as attractive as you can – use bullet points notes, representative diagrams/symbols and pictures from internet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ity- State Political Structur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ek City-States had different structur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Monarchy, Oligarchy, Tyran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sing the handout create a mind map for each of these within the Greek contex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e Rise of Athen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atch the film and answer the questions to learn about the growth of Athens and the path to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P3 files are loaded on Forum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ocial Structure in Athens under the Aristocrac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76" name="Content Placeholder 3" descr=""/>
          <p:cNvPicPr/>
          <p:nvPr/>
        </p:nvPicPr>
        <p:blipFill>
          <a:blip r:embed="rId1"/>
          <a:stretch/>
        </p:blipFill>
        <p:spPr>
          <a:xfrm>
            <a:off x="237960" y="1420920"/>
            <a:ext cx="86742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26880" y="678960"/>
            <a:ext cx="758376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did democracy develop in Ancient Greec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2697120" y="1425600"/>
            <a:ext cx="64468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eisthenes – noble Athenian of the  Alcmaeonid famil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508 B.C. overthrew tyrants and made sweeping changes that turned Athens into a limited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ivided tribes into 10 clans, subdivided into local governments (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rebuchet MS"/>
              </a:rPr>
              <a:t>DEME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ans each chose 50 members of Council of 500 – by lo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embers served 1 year – 2 term limit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urors also chosen by lot (from citizen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79" name="Picture 3" descr=""/>
          <p:cNvPicPr/>
          <p:nvPr/>
        </p:nvPicPr>
        <p:blipFill>
          <a:blip r:embed="rId1"/>
          <a:stretch/>
        </p:blipFill>
        <p:spPr>
          <a:xfrm>
            <a:off x="326880" y="1425600"/>
            <a:ext cx="237024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id Pericles change Athens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Using pp13-135 of the handou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317520" y="1325520"/>
          <a:ext cx="8478720" cy="5175360"/>
        </p:xfrm>
        <a:graphic>
          <a:graphicData uri="http://schemas.openxmlformats.org/drawingml/2006/table">
            <a:tbl>
              <a:tblPr/>
              <a:tblGrid>
                <a:gridCol w="4238640"/>
                <a:gridCol w="424008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ericles</a:t>
                      </a:r>
                      <a:r>
                        <a:rPr b="1" lang="ja-JP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chan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c59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ow this strengthened democracy and 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c5986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reased the number of public officials that were paid sala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e pp134-135 of the hand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me limits on holding off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roduction of Direct Democ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d and strengthen the Athenian Emp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orification of 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Focus Point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evelopment of Greek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haracteristics of Greek Socie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ontrasting Athenian and Spartan cultur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1"/>
          <p:cNvSpPr/>
          <p:nvPr/>
        </p:nvSpPr>
        <p:spPr>
          <a:xfrm>
            <a:off x="2357280" y="0"/>
            <a:ext cx="4119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enian Government &amp;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ecks and bal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214200" y="1143000"/>
            <a:ext cx="18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2000160" y="12142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3929040" y="1295280"/>
            <a:ext cx="16430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e parlia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2"/>
          <p:cNvSpPr/>
          <p:nvPr/>
        </p:nvSpPr>
        <p:spPr>
          <a:xfrm>
            <a:off x="5257800" y="144792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le landow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3"/>
          <p:cNvSpPr/>
          <p:nvPr/>
        </p:nvSpPr>
        <p:spPr>
          <a:xfrm>
            <a:off x="5715000" y="16765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ree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4"/>
          <p:cNvSpPr/>
          <p:nvPr/>
        </p:nvSpPr>
        <p:spPr>
          <a:xfrm flipV="1" rot="10800000">
            <a:off x="2642760" y="1816200"/>
            <a:ext cx="1428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dviso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8"/>
          <p:cNvSpPr/>
          <p:nvPr/>
        </p:nvSpPr>
        <p:spPr>
          <a:xfrm>
            <a:off x="1371600" y="2819520"/>
            <a:ext cx="186228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ereop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riminal law court, made up of  former arch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1"/>
          <p:cNvSpPr/>
          <p:nvPr/>
        </p:nvSpPr>
        <p:spPr>
          <a:xfrm>
            <a:off x="5029200" y="2286000"/>
            <a:ext cx="144792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ncil of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2"/>
          <p:cNvSpPr/>
          <p:nvPr/>
        </p:nvSpPr>
        <p:spPr>
          <a:xfrm>
            <a:off x="7391520" y="3276720"/>
            <a:ext cx="14475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rt of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pp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8"/>
          <p:cNvSpPr/>
          <p:nvPr/>
        </p:nvSpPr>
        <p:spPr>
          <a:xfrm>
            <a:off x="5000760" y="2971800"/>
            <a:ext cx="18572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the gover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citizens (3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1 year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2 term li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p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chosen by lotte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6"/>
          <p:cNvSpPr/>
          <p:nvPr/>
        </p:nvSpPr>
        <p:spPr>
          <a:xfrm flipH="1">
            <a:off x="3276360" y="1752480"/>
            <a:ext cx="857160" cy="21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7"/>
          <p:cNvSpPr/>
          <p:nvPr/>
        </p:nvSpPr>
        <p:spPr>
          <a:xfrm flipH="1">
            <a:off x="2362320" y="22860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8"/>
          <p:cNvSpPr/>
          <p:nvPr/>
        </p:nvSpPr>
        <p:spPr>
          <a:xfrm>
            <a:off x="5181480" y="1905120"/>
            <a:ext cx="32868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9"/>
          <p:cNvSpPr/>
          <p:nvPr/>
        </p:nvSpPr>
        <p:spPr>
          <a:xfrm>
            <a:off x="6477120" y="2743200"/>
            <a:ext cx="1523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24"/>
          <p:cNvSpPr/>
          <p:nvPr/>
        </p:nvSpPr>
        <p:spPr>
          <a:xfrm>
            <a:off x="1066680" y="5029200"/>
            <a:ext cx="695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Pericles extend democra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paying people to attend the Assembly help democra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you think there were time limits on holding off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 you think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1"/>
          <p:cNvSpPr/>
          <p:nvPr/>
        </p:nvSpPr>
        <p:spPr>
          <a:xfrm>
            <a:off x="2357280" y="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henian Government &amp;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214200" y="114300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80008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century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2000160" y="12142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66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century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ig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2428920" y="19288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1 BC Dr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2214720" y="257184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4 BC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ol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e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3714840" y="12859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1" lang="en-US" sz="1800" spc="-1" strike="noStrike" baseline="30000">
                <a:solidFill>
                  <a:srgbClr val="0099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century</a:t>
            </a:r>
            <a:br>
              <a:rPr sz="1800"/>
            </a:b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yr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3857760" y="207180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0 BC Pisistratus the Ty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6000840" y="128592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centur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5929200" y="221472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7 BC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leisth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moc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0"/>
          <p:cNvSpPr/>
          <p:nvPr/>
        </p:nvSpPr>
        <p:spPr>
          <a:xfrm>
            <a:off x="3929040" y="31050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2"/>
          <p:cNvSpPr/>
          <p:nvPr/>
        </p:nvSpPr>
        <p:spPr>
          <a:xfrm>
            <a:off x="5572080" y="32446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landow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3"/>
          <p:cNvSpPr/>
          <p:nvPr/>
        </p:nvSpPr>
        <p:spPr>
          <a:xfrm>
            <a:off x="5715000" y="3571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ll Fre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4"/>
          <p:cNvSpPr/>
          <p:nvPr/>
        </p:nvSpPr>
        <p:spPr>
          <a:xfrm flipV="1" rot="10800000">
            <a:off x="2642760" y="36122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8"/>
          <p:cNvSpPr/>
          <p:nvPr/>
        </p:nvSpPr>
        <p:spPr>
          <a:xfrm>
            <a:off x="1143000" y="4071960"/>
            <a:ext cx="1785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reop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5029200" y="4114800"/>
            <a:ext cx="144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ncil of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7391520" y="4343400"/>
            <a:ext cx="14475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rt of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pp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8"/>
          <p:cNvSpPr/>
          <p:nvPr/>
        </p:nvSpPr>
        <p:spPr>
          <a:xfrm>
            <a:off x="5000760" y="4876920"/>
            <a:ext cx="185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citizens (30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1 yea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2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chosen by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33"/>
          <p:cNvSpPr/>
          <p:nvPr/>
        </p:nvSpPr>
        <p:spPr>
          <a:xfrm>
            <a:off x="6858000" y="5867280"/>
            <a:ext cx="12193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6"/>
          <p:cNvSpPr/>
          <p:nvPr/>
        </p:nvSpPr>
        <p:spPr>
          <a:xfrm flipH="1">
            <a:off x="3500280" y="3571920"/>
            <a:ext cx="857520" cy="21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7"/>
          <p:cNvSpPr/>
          <p:nvPr/>
        </p:nvSpPr>
        <p:spPr>
          <a:xfrm flipH="1">
            <a:off x="2428560" y="385776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8"/>
          <p:cNvSpPr/>
          <p:nvPr/>
        </p:nvSpPr>
        <p:spPr>
          <a:xfrm>
            <a:off x="5135400" y="3714840"/>
            <a:ext cx="22248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9"/>
          <p:cNvSpPr/>
          <p:nvPr/>
        </p:nvSpPr>
        <p:spPr>
          <a:xfrm>
            <a:off x="5214960" y="3643200"/>
            <a:ext cx="2214720" cy="71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28680" y="380880"/>
            <a:ext cx="823104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ge of Peric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328320" y="1568160"/>
            <a:ext cx="84502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ericles was swept into power and broke up the Council of 500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42880" indent="-277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ericles changed the rules about who could participate in the new democracy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42880" indent="-277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t was not based on birth status or wealth, but on meri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42880" indent="-277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e changed the rules to be a citizen: both parents need to be Athenia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42880" indent="-277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der Pericles the Assembly (all citizen males) became the central power in the stat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ny of the great Greek Tragedies and Comedies were written during this time perio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uilt the Partheno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cused on Democratic reform and the maintenance of the Empir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me say Athens wealth (due to Pericles) was the reason for Sparta’s disdai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6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mocracy in the Age of Pericl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779040" y="1041120"/>
            <a:ext cx="75834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ominated Athenian public affairs between 461B.C.-429B.C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Great general, orator, and statesma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time of Athens</a:t>
            </a:r>
            <a:r>
              <a:rPr b="0" lang="ja-JP" sz="22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greatest power and prosperi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emocracy reaches its height (Direct Democracy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ll male citizens could hold office (not just landowner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Officeholders received salari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ost offices were chosen by lo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ower to the People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779040" y="1482480"/>
            <a:ext cx="75834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stracism: the practice of banning people from Athens for 10 yea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6000 citizens had to vote for ostracis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signed to prevent civil unrest and civil wa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thenians feared too much power in the hands of one or a few peop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However, whilst ordinary people were now more able to participate in public affairs…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4160" indent="-2541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omen did not hold full citizenshi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4160" indent="-2541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thens still supported by slaver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4160" indent="-2541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n fact some historians would suggest that about 75% of people in Athens were not considered full citizen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4160" indent="-2541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79040" y="647280"/>
            <a:ext cx="75834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End of Democracy in Greec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779040" y="1317600"/>
            <a:ext cx="75834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eloponnesian Wars (431-404 B.C) weakened all of Greec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t the end of the war a group of Oligarchs led a revolution to seize power (supported by Sparta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1680" indent="-29196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uled for one year before being overthrown by democratic principl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mocracy flourished for another 80 years until Alexander the Great conquered Greece in 322 B.C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omans extinguished democracy for good when they created their Republic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mocrac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o were the founding fathers of democracy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are the characteristics of Athenian democracy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raw a diagram or cartoon to that would help someone understand the main elements of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Law &amp; Government Glossar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autocrac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tyrann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oligarch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aristocra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Direct democrac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Representative democra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monarch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republic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49" name="Picture 3" descr="C:\Documents and Settings\Evan\My Documents\My Pictures\New Folder\map.jpg"/>
          <p:cNvPicPr/>
          <p:nvPr/>
        </p:nvPicPr>
        <p:blipFill>
          <a:blip r:embed="rId1"/>
          <a:srcRect l="2159" t="2554" r="4931" b="2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Title 1"/>
          <p:cNvSpPr/>
          <p:nvPr/>
        </p:nvSpPr>
        <p:spPr>
          <a:xfrm>
            <a:off x="1386000" y="406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What was so speci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bout the Gree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ntent Placeholder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7760" y="538200"/>
            <a:ext cx="893124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Minoan Civilization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10600" y="1417680"/>
            <a:ext cx="84870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dence suggests that Minoan civilization was well developed by around 2000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te (soil unsuitable for many crops – trade by sea widely, including with Mycenae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as influenced by civilizations of Nile Valley &amp; Fertile Crescent but developed many unique features – frescoes, carved figures in bronze, ivory, gold,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rm of writing called Linear B (early form of Greek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oan Flee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56" name="Picture 3" descr=""/>
          <p:cNvPicPr/>
          <p:nvPr/>
        </p:nvPicPr>
        <p:blipFill>
          <a:blip r:embed="rId1"/>
          <a:stretch/>
        </p:blipFill>
        <p:spPr>
          <a:xfrm>
            <a:off x="520560" y="1828800"/>
            <a:ext cx="810756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89000" y="0"/>
            <a:ext cx="86868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Mycenaean Civilization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0" y="1058400"/>
            <a:ext cx="91440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rly Indo-European settlers arrived on the Greek Mainland around 2000 B.C. settled in southern Greec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uilt fortified cities: Mycenae, Tiryns, Pylos - Mycenae was fortified by a wall more than 20ft thi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lers controlled the surrounding areas.Mycenaean Kings dominated Greece 1600 – 1100 B.C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dopted many elements of Minoan cult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ojan War 1200</a:t>
            </a:r>
            <a:r>
              <a:rPr b="0" lang="ja-JP" sz="28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 B.C. – 10 year war with Independent Anatolian trading city Tro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construction of Mycena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282600" y="1425600"/>
            <a:ext cx="85374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4:12:56Z</dcterms:created>
  <dc:creator>IT User</dc:creator>
  <dc:description/>
  <dc:language>en-US</dc:language>
  <cp:lastModifiedBy>Microsoft Office User</cp:lastModifiedBy>
  <cp:lastPrinted>2011-10-25T19:25:51Z</cp:lastPrinted>
  <dcterms:modified xsi:type="dcterms:W3CDTF">2011-10-29T18:36:47Z</dcterms:modified>
  <cp:revision>31</cp:revision>
  <dc:subject/>
  <dc:title>Greek Government &amp; Law</dc:title>
</cp:coreProperties>
</file>